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LASER.WAV" ContentType="audio/x-wav"/>
  <Override PartName="/ppt/media/CAMERA.WAV" ContentType="audio/x-wav"/>
  <Override PartName="/ppt/media/TYPE.WAV" ContentType="audio/x-wav"/>
  <Override PartName="/ppt/media/image2.wmf" ContentType="image/x-wmf"/>
  <Override PartName="/ppt/media/image3.wmf" ContentType="image/x-wmf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FF10-D77E-4E9F-B082-0EAB4D6F76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Factorization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every composite number expressed as a product of a prim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Factor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omposite number expressed as a product of a prim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ncept Summary: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whole number that has exactly two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s, 1 and the number itself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1, 13, 25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mposit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number greater than 1 with more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than two factors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6, 10, 18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Neither prime nor composit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 has only one factor. O has an infinite number or factors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0, 1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ole number that has exactly tw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, 1 and the number itself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 13, 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greater than 1 with mo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wo fac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 10, 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ither prime nor compo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has only one factor. O has an infinite number or fac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.Identify Prime and composite, 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or neither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8:  The factors of 28 are 1 and 28, 2 and 14, and 4 and 7.  Since 28 has more than two factors, it is a composit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1:   The factors of 11 are 1 and 11.  Since there are exactly two factors, 1 and the number itself, 11 is a prim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Identify Prime and composit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n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:  The factors of 28 are 1 and 28, 2 and 14, and 4 and 7.  Since 28 has more than two factors, it is a composi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:   The factors of 11 are 1 and 11.  Since there are exactly two factors, 1 and the number itself, 11 is a prim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when two or more numbers are multiplied, each number is called a factor of the product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Numbe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whole number that has exactly two unique factors, 1 and the number itself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mposite numbe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number greater than 1 with more than two factors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numbers are multiplied, each number is called a factor of the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Numbe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ole number that has exactly two unique factors, 1 and the number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e numbe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greater than 1 with more than two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Numbers and Prime Factorization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Every Composite number can be written as a product of prime number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6  = 2 x 3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8  = 2 x 2 x 2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2= 2 x 2 x 3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Numbers and Prime Fact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omposite number can be written as a product of prim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 = 2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 = 2 x 2 x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= 2 x 2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Factor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s that are prime numbers are called prime factors.  You can use Factor Tree to find prime factors. This one shows the prime factors of 50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0=2 x 5 x 5 is the prime factorization of 50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are prime numbers are called prime factors.  You can use Factor Tree to find prime factors. This one shows the prime factors of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=2 x 5 x 5 is the prime factorization of 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Hope you enjoy the Lesson!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Have a nice day to all of you!!!!!!!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you enjoy the Less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ice day to all of you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EDF-94FE-4255-83AC-4FE6FEEE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F402-B10C-4E91-93A1-D8A07955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90B3-CB67-4056-8F29-622AB84A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FC34-43E6-48E7-9A53-68BEE2F4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7EEE-539E-4989-891F-E09381E6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8AA7-484C-4C49-91A8-73281907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9B49-79EA-4F74-B964-3254DFA2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897B-090C-4D57-BE1E-2A9EAE70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248D-FD31-4694-BEE0-A58BD15F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45CB-3C7C-4721-BCFC-83048702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04BE-19F2-4335-8B88-CCCAE9DD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107-A6A9-4573-BB98-8CCDD56B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98C3-32DA-478E-849F-B5BAF2A8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863D-57BE-47DA-AF67-D6B07E4E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1936-A9C4-42B3-9BA5-74272370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BB52-7E0F-4665-A5A7-9F8FB3EF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C26D-04C6-40F9-BCEB-2219C33F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4ACA-F0AB-4AA0-8FE8-846D9FAC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DA6-F161-4080-BFA7-8867D992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EE4-225A-4884-B137-26D15F89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2C6-0891-482A-B42C-17C8A6EE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5E3-7793-4C72-961E-777D99E0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6D1-06E6-40BB-902A-DFBE589A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FBD-D165-4B6D-B6A8-F848B0EC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8F13-DD18-4547-905C-98E04167C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86EA-279B-4524-9A49-5DB00E2750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Prime Factorization</a:t>
            </a:r>
            <a:br>
              <a:rPr sz="4000"/>
            </a:b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by</a:t>
            </a:r>
            <a:br>
              <a:rPr sz="4000"/>
            </a:b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Dr. Emerlina C. Binuy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5280" y="2590560"/>
            <a:ext cx="69343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ahoma"/>
              </a:rPr>
              <a:t>every composite number expressed as a product of a prime number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Concept Summary</a:t>
            </a:r>
            <a:r>
              <a:rPr b="1" lang="en-US" sz="40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Prim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whole number that has exactly two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factors, 1 and the number itself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34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1, 13, 25</a:t>
            </a:r>
            <a:r>
              <a:rPr b="1" lang="en-US" sz="1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Composit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number greater than 1 with more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than two factors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6, 10, 18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Neither prime nor composit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 has only one factor. O has an infinite number or factors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0, 1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75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75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75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75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75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.</a:t>
            </a:r>
            <a:r>
              <a:rPr b="1" i="1" lang="en-US" sz="3600" spc="-1" strike="noStrike">
                <a:solidFill>
                  <a:srgbClr val="ccffff"/>
                </a:solidFill>
                <a:latin typeface="Tahoma"/>
              </a:rPr>
              <a:t>Identify Prime and composite, </a:t>
            </a:r>
            <a:br>
              <a:rPr sz="3600"/>
            </a:br>
            <a:r>
              <a:rPr b="1" i="1" lang="en-US" sz="3600" spc="-1" strike="noStrike">
                <a:solidFill>
                  <a:srgbClr val="ccffff"/>
                </a:solidFill>
                <a:latin typeface="Tahoma"/>
              </a:rPr>
              <a:t>or neither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239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28:  The factors of 28 are 1 and 28, 2 and 14, and 4 and 7.  Since 28 has more than two factors, it is a composite number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11:   The factors of 11 are 1 and 11.  Since there are exactly two factors, 1 and the number itself, 11 is a prime number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8" name="Object 7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1905120" cy="39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Reme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Facto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when two or more numbers are multiplied, each number is called a factor of the product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Prime Numbe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a whole number that has exactly two unique factors, 1 and the number itself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Composite numbe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a number greater than 1 with more than two factor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1" name="Object 5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99036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Prime Numbers and Prime Factoriz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Every Composite number can be written as a product of prime numb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6  = 2 x 3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8  = 2 x 2 x 2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12= 2 x 2 x 3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75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75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75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Prime Fact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Factors that are prime numbers are called prime factors.  You can use Factor Tree to find prime factors. This one shows the prime factors of 5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5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6" name="Line 4"/>
          <p:cNvSpPr/>
          <p:nvPr/>
        </p:nvSpPr>
        <p:spPr>
          <a:xfrm flipH="1">
            <a:off x="2590920" y="4419720"/>
            <a:ext cx="304560" cy="45720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3124080" y="4419720"/>
            <a:ext cx="228600" cy="45720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362320" y="48006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04956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Line 8"/>
          <p:cNvSpPr/>
          <p:nvPr/>
        </p:nvSpPr>
        <p:spPr>
          <a:xfrm flipH="1">
            <a:off x="2971440" y="5257800"/>
            <a:ext cx="228600" cy="3808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3429000" y="5257800"/>
            <a:ext cx="228600" cy="3808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743200" y="55627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5830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4572000" y="51055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0=2 x 5 x 5 is the prime factorization of 50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pe you enjoy the Lesson!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ahoma"/>
              </a:rPr>
              <a:t>Have a nice day to all of you!!!!!!!</a:t>
            </a:r>
            <a:endParaRPr b="0" lang="en-US" sz="4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4:12:50Z</dcterms:created>
  <dc:creator>emerlina binuya</dc:creator>
  <dc:description/>
  <dc:language>en-US</dc:language>
  <cp:lastModifiedBy>RomaK</cp:lastModifiedBy>
  <dcterms:modified xsi:type="dcterms:W3CDTF">2015-09-04T09:17:57Z</dcterms:modified>
  <cp:revision>30</cp:revision>
  <dc:subject/>
  <dc:title>Prime Factorization</dc:title>
</cp:coreProperties>
</file>